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6615"/>
        <c:axId val="64060434"/>
      </c:barChart>
      <c:catAx>
        <c:axId val="4566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60434"/>
        <c:crosses val="autoZero"/>
        <c:auto val="1"/>
        <c:lblAlgn val="ctr"/>
        <c:lblOffset val="100"/>
        <c:noMultiLvlLbl val="0"/>
      </c:catAx>
      <c:valAx>
        <c:axId val="640604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6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11F-9ACE-4C21-A75E-45D6B362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AA9-6AA8-4B96-A516-C97538E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EAC-DB25-4EBC-8406-00A472DD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110-DC46-4556-8861-C2CFC8BF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A2D-1273-48C3-84D8-29343747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8B87-E1AD-44C2-9165-76DA1ADC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2B4-BED1-487B-B650-389C112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4ED-9C8C-4F1D-BA5D-CE9C7FB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564-498E-405B-B3DE-0BB9F85B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9CD-08A2-4CC1-9F4F-1F3F3D9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143-099C-4F37-AD7D-F2FD699C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534-65D4-4F32-9438-BF56F23B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418EA-9769-45EB-8959-C61F14F90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