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86768"/>
        <c:axId val="52897514"/>
      </c:barChart>
      <c:catAx>
        <c:axId val="19286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97514"/>
        <c:crosses val="autoZero"/>
        <c:auto val="1"/>
        <c:lblAlgn val="ctr"/>
        <c:lblOffset val="100"/>
        <c:noMultiLvlLbl val="0"/>
      </c:catAx>
      <c:valAx>
        <c:axId val="52897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86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480-6305-47EB-94D4-9FEEB872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150-F0B5-4897-8D61-AB33E8F1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98A-93F4-46AC-9F77-1D2164FD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832-815C-47E6-BC00-CA3DE494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682-2DA8-44EF-8DEE-73F053D9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187-7E4C-490C-86CD-E0A7C376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AFD-399C-49DC-A5A4-6EC90C0D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538-CD58-4DA2-831D-D581D3A6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264-17F4-4E76-BF98-34B7C5A8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58E-6F32-4568-A6D8-AC2C85E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03C-3658-405A-BD70-C66B6E9B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5B6-6476-40E8-9A31-1ABDA4F6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DBEF8-9A5F-47F2-AB9C-C4906A17EC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