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89368"/>
        <c:axId val="48346331"/>
      </c:barChart>
      <c:catAx>
        <c:axId val="47889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6331"/>
        <c:crosses val="autoZero"/>
        <c:auto val="1"/>
        <c:lblAlgn val="ctr"/>
        <c:lblOffset val="100"/>
        <c:noMultiLvlLbl val="0"/>
      </c:catAx>
      <c:valAx>
        <c:axId val="48346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89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2CD-A475-4822-A8B7-FAE4B2E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102-CB23-494E-8C55-4CF2EE63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541-71E2-4F54-9516-DB8F90D9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31A-7BCD-4294-85FA-7F833F3F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BC8-E884-46E8-9569-B2C5D8F0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BA7-141B-423B-85C4-93D7E5C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3C5-DFBD-415A-BDEF-6D5639D3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C40-EBA7-4732-A3D8-C1CCAE83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9A1-B3E9-4498-AD8F-8DD69099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019-A0C7-4224-ACA7-8FA8336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7C8-7DFB-40BB-BBED-9F1C314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EA5-956E-4525-8A7B-2B175F1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11FD0-94E6-4DBB-83B3-C1AFB1A7E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